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D4F-C7D5-44F3-916A-9E69A95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FD6-C58A-4D6F-AA2A-45689324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7BF-537B-449F-A189-06370DC1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624-C283-43BA-A15E-AA4C9952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734-4136-4A61-B097-EAD2E001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710C-470B-4B58-878C-33184E5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0639-7DB3-4D6E-A5B7-0AD1A17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12E-BD3F-4F85-9E0A-C49AE27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40C-13B2-4B92-9530-F756159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36B-5B26-43CB-ADD4-2B22B596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D84B-FB95-4188-8640-7677CC6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665-1A12-4F51-9763-3F92E5B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34A-D99A-438B-9552-1DE90A2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0F01-CE3A-48B2-8F04-AD44D76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AA3-B449-4A7F-A214-1F49A92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0628-3CD1-4CE6-A29E-915DB53A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BEF-0F84-48F8-9FC0-D6C70D9D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D3B-E671-4AAE-92AA-2F8D5AC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D9F-607D-4BB3-9017-D68409A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B3D-B698-4FD0-82F5-D9AEF113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434-B518-433D-A875-3817FDC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12C-F379-4478-A08E-701ABF5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7D8-3EED-499E-9DFC-DBA9D96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28E-B29E-482B-877C-CBA1622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F7F2-3F62-402E-9601-EAEE62D2A9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7D2-8871-4302-B1CB-A846A2FAEC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64 bit Kogge-Stone Adders in different logic styles – A study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b McNi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tyanand Nal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for the carry tree is the path for C0 as this consists entirely of invert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distribution for the static cmos adder is shown. The mean was 144 p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input vectors (in hex)  are A=0000 0000 0000 0001 B=0000 0000 0000 0000 -&gt; 0000 0000 0000 000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93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Dynamic log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6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 dissip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3962520"/>
          <a:ext cx="8229240" cy="2189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tatic CM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1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ynamic Log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.7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P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.2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wer dissipation was measured for the three adders using spectre for th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novelty: Using a high VT footer to reduce leakage power in OPL gat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ed High VT footer transistor, in order to reduce leakage power in standby mode for the OPL ad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ers added to the basic sub-block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VT transistor modeled by applying a negative voltage to the bulk of the footer transisto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age power re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x reduction in leakage power got by using the high VT footer in the OPL add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743200" y="3886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/o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3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ith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54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. A 0.5V, 400MHz, VDD-Hopping Processor with Zero-VTH FD-SOI Technolog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iroshi Kawaguchi, Kouichi Kanda ISSCC 2003 / SESSION 6 / LOW-POWER DIGITAL TECHNIQUES / PAPER 6.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Output prediction logic: a high-performance CMOS design technique McMurchie, L.; Kio, S.; Yee, G.; Thorp, T.; Sechen, C.; Computer Design, 2000. Proceedings. 2000 International Conference on 17-20 Sept. 2000 Page(s):247 - 25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. 409ps 4.7 FO4 64b adder based on output prediction logic in 0.18um CMOS Sheng Sun; Yi Han; Xinyu Guo; Kian Haur Chong; McMurchie, L.; Sechen, C.; VLSI, 2005. Proceedings. IEEE Computer Society Annual Symposium on 11-12 May 2005 Page(s):52 - 5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compare speed and power dissipation of 64-bit Kogge Stone Adder in 3 logic sty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C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ynamic Log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Output Prediction Logic (OP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reduce leakage power dissipation in OPL circuits using MTCMOS techniqu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chnology used – 90nm P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erarchical desig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rting sub-blocks (dot and square) to implement the nodes of the Kogge-Stone t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lement the basic sub-blocks in static, dynamic and OPL-static sty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imal changes to the tree netlist to construct the 3 add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chematic for 16 bit adder is shown. Can be extended for a 64 bit add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238520" y="1599840"/>
            <a:ext cx="1600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60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ematic for 16 bit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746360"/>
            <a:ext cx="51818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put Prediction Logic (OP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gic style that can be applied to different logic styles to increase spe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ains attributes of the underlying family (e.g Static, Dynamic, Pseudo-nmos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es on alternating nature of logical output values of a critical path, i.e, for any critical path the outputs of the gates along the paths will be alternating zeros and o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oncep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L predicts that every output will be 1 after the transitions are comple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ce all gates are inverting, the predictions will be correct one half of the time =&gt; at least 2X speed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: One at the output of every inverting gate is not a stable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0718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353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-state each gate with a clock =&gt; 1 at input and 1 output is possi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 shown – 3 input nor gate in OPL-static, where the predicted value is a 1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K=0 =&gt; gate is tristated, with output precharged to 1.  CLK=1 =&gt; conventional CMOS g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7403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PL clocking: Chain of OPL ga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265200" cy="127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836800" cy="140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954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loc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ess =&gt; heavy glitching and precharge value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arge =&gt; minimal glitching, but speedup achieved is limited by the clock, not by the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timal Clock separation =&gt; limited glitching and circuit is not clock-block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2:29:37Z</dcterms:created>
  <dc:creator>Satyanand Vijay Nalam</dc:creator>
  <dc:description/>
  <dc:language>en-US</dc:language>
  <cp:lastModifiedBy>Satyanand Vijay Nalam</cp:lastModifiedBy>
  <dcterms:modified xsi:type="dcterms:W3CDTF">2006-12-04T18:05:32Z</dcterms:modified>
  <cp:revision>112</cp:revision>
  <dc:subject/>
  <dc:title>64 bit Kogge-Stone Adders in different logic styles – A study</dc:title>
</cp:coreProperties>
</file>